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E052-9F28-449E-AD60-5016EAA34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CB7D-B100-4A1C-ABAA-A5D6F3278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B823-9A79-4FCC-BC08-2BC8995AA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BBA8-6CDE-42FB-A092-57E87BC63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A180-9F74-4988-8544-69D4C1202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1573-49E6-41CA-92C0-D12C801EE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2B87-0AF9-46F5-B212-75F733634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712E-5C4B-4157-B568-20D29CEE4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47E5-AF4A-48E1-B5BA-B98651F82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1F65-F746-44FE-B1F1-6EBBB8A5B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949C-7702-4BE0-A0C3-70F8ABCA2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A1EF-E0DE-4264-A9FE-66B074ED8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3A79-8316-4340-8132-5BE8CB5B8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28F6-E34C-428D-8875-C316F543B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6DC1-0096-435A-AD0A-205C62791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1C46-3403-4A32-ABD8-47AAF3809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CABA-B2A8-410C-A5F7-98D285990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D337-371D-4D0F-A37B-4326E0B9B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B501-7718-4CC1-8083-FF6807A93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7422-D8D4-44C9-B84C-C3F358DC4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CE7F-CA93-4B78-A78F-1481EB848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BDC1-DAC5-4DFA-9199-456509155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3152-306F-443C-8175-49717A1C7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2BB3-C31C-467B-B377-AC7813030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4936-BB34-4822-A75E-24AD4EB22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A25D-650A-43FE-84B9-2A557063C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65C-852E-44A0-B716-8772D06A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EE9-331C-44E6-81EF-B7C5BC7A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211-F2CE-4934-98B8-EFF0830C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2CB-C75D-4F60-8F80-5425C3B5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BFB-A292-4938-8889-307C1C15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F57D-AD45-4072-8B1C-AB70E26D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71EC-1758-46A3-A4B1-0426D1DA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DC9-118C-487C-854C-6BCD48F4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55E-3EDC-4197-8B3F-B79E2525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B6F9-6F63-4FE9-A0F4-EA913A94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1068-06FE-4929-A222-99E66425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D7B-9E8D-4730-A014-F9A1DF2F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868C-F524-494D-BA97-91F39D180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26"/>
          <p:cNvSpPr/>
          <p:nvPr/>
        </p:nvSpPr>
        <p:spPr>
          <a:xfrm>
            <a:off x="609480" y="228600"/>
            <a:ext cx="80010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Wizard of 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y L. Frank Ba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27" descr="all1"/>
          <p:cNvPicPr/>
          <p:nvPr/>
        </p:nvPicPr>
        <p:blipFill>
          <a:blip r:embed="rId1"/>
          <a:stretch/>
        </p:blipFill>
        <p:spPr>
          <a:xfrm>
            <a:off x="533520" y="1523880"/>
            <a:ext cx="3990960" cy="4724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30"/>
          <p:cNvSpPr/>
          <p:nvPr/>
        </p:nvSpPr>
        <p:spPr>
          <a:xfrm>
            <a:off x="5257800" y="2362320"/>
            <a:ext cx="2971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31"/>
          <p:cNvSpPr/>
          <p:nvPr/>
        </p:nvSpPr>
        <p:spPr>
          <a:xfrm>
            <a:off x="304920" y="6324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金梅鋼筆寬個性字"/>
              </a:rPr>
              <a:t>Made b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金梅鋼筆寬個性字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金梅鋼筆寬個性字"/>
              </a:rPr>
              <a:t>Stacy, Patty, May, S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vc1"/>
          <p:cNvPicPr/>
          <p:nvPr/>
        </p:nvPicPr>
        <p:blipFill>
          <a:blip r:embed="rId1"/>
          <a:stretch/>
        </p:blipFill>
        <p:spPr>
          <a:xfrm>
            <a:off x="274320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250920" y="1066680"/>
            <a:ext cx="2415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rounded by eight of Frank’s early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vc12"/>
          <p:cNvPicPr/>
          <p:nvPr/>
        </p:nvPicPr>
        <p:blipFill>
          <a:blip r:embed="rId1"/>
          <a:stretch/>
        </p:blipFill>
        <p:spPr>
          <a:xfrm>
            <a:off x="3581280" y="304920"/>
            <a:ext cx="4805640" cy="6248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457200" y="1143000"/>
            <a:ext cx="266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iginal Artwork for the Wizard by Den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vc13"/>
          <p:cNvPicPr/>
          <p:nvPr/>
        </p:nvPicPr>
        <p:blipFill>
          <a:blip r:embed="rId1"/>
          <a:stretch/>
        </p:blipFill>
        <p:spPr>
          <a:xfrm>
            <a:off x="3733920" y="304920"/>
            <a:ext cx="4752720" cy="6172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457200" y="1143000"/>
            <a:ext cx="266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iginal Artwork for the Wizard by Den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609480" y="914400"/>
            <a:ext cx="6553440" cy="54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ro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o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Scarec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dorothy"/>
          <p:cNvPicPr/>
          <p:nvPr/>
        </p:nvPicPr>
        <p:blipFill>
          <a:blip r:embed="rId1"/>
          <a:stretch/>
        </p:blipFill>
        <p:spPr>
          <a:xfrm>
            <a:off x="3733920" y="1066680"/>
            <a:ext cx="3886200" cy="279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scarecrow"/>
          <p:cNvPicPr/>
          <p:nvPr/>
        </p:nvPicPr>
        <p:blipFill>
          <a:blip r:embed="rId2"/>
          <a:stretch/>
        </p:blipFill>
        <p:spPr>
          <a:xfrm>
            <a:off x="4952880" y="3581280"/>
            <a:ext cx="3949920" cy="2865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609480" y="2286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Charac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scarecrow 2"/>
          <p:cNvPicPr/>
          <p:nvPr/>
        </p:nvPicPr>
        <p:blipFill>
          <a:blip r:embed="rId3"/>
          <a:stretch/>
        </p:blipFill>
        <p:spPr>
          <a:xfrm>
            <a:off x="3581280" y="5181480"/>
            <a:ext cx="221004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533520" y="914400"/>
            <a:ext cx="29718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Tin Woods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Cowardly 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tinman"/>
          <p:cNvPicPr/>
          <p:nvPr/>
        </p:nvPicPr>
        <p:blipFill>
          <a:blip r:embed="rId1"/>
          <a:stretch/>
        </p:blipFill>
        <p:spPr>
          <a:xfrm>
            <a:off x="3429000" y="1143000"/>
            <a:ext cx="3873600" cy="2838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lion"/>
          <p:cNvPicPr/>
          <p:nvPr/>
        </p:nvPicPr>
        <p:blipFill>
          <a:blip r:embed="rId2"/>
          <a:stretch/>
        </p:blipFill>
        <p:spPr>
          <a:xfrm>
            <a:off x="5029200" y="3581280"/>
            <a:ext cx="3873600" cy="2901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tin 2"/>
          <p:cNvPicPr/>
          <p:nvPr/>
        </p:nvPicPr>
        <p:blipFill>
          <a:blip r:embed="rId3"/>
          <a:stretch/>
        </p:blipFill>
        <p:spPr>
          <a:xfrm>
            <a:off x="6248520" y="380880"/>
            <a:ext cx="26668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0" y="685800"/>
            <a:ext cx="4114800" cy="59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The Wizard of O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The Witch of the W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Witch of the S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wizard of east"/>
          <p:cNvPicPr/>
          <p:nvPr/>
        </p:nvPicPr>
        <p:blipFill>
          <a:blip r:embed="rId1"/>
          <a:stretch/>
        </p:blipFill>
        <p:spPr>
          <a:xfrm>
            <a:off x="3886200" y="3200400"/>
            <a:ext cx="311148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good wizard"/>
          <p:cNvPicPr/>
          <p:nvPr/>
        </p:nvPicPr>
        <p:blipFill>
          <a:blip r:embed="rId2"/>
          <a:stretch/>
        </p:blipFill>
        <p:spPr>
          <a:xfrm>
            <a:off x="5638680" y="449568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realman oz"/>
          <p:cNvPicPr/>
          <p:nvPr/>
        </p:nvPicPr>
        <p:blipFill>
          <a:blip r:embed="rId3"/>
          <a:stretch/>
        </p:blipFill>
        <p:spPr>
          <a:xfrm>
            <a:off x="5867280" y="838080"/>
            <a:ext cx="2822760" cy="2060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oz"/>
          <p:cNvPicPr/>
          <p:nvPr/>
        </p:nvPicPr>
        <p:blipFill>
          <a:blip r:embed="rId4"/>
          <a:stretch/>
        </p:blipFill>
        <p:spPr>
          <a:xfrm>
            <a:off x="4495680" y="838080"/>
            <a:ext cx="137160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3276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7592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rothy lives on a Kansas farm with her uncle Henry and Aunt Em and her little dog Toto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 frightening cyclone appears, Dorothy unable to reach the storm cellar in t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28" descr="dorothy and toto"/>
          <p:cNvPicPr/>
          <p:nvPr/>
        </p:nvPicPr>
        <p:blipFill>
          <a:blip r:embed="rId1"/>
          <a:srcRect l="6277" t="18732" r="3089" b="15642"/>
          <a:stretch/>
        </p:blipFill>
        <p:spPr>
          <a:xfrm>
            <a:off x="6227640" y="476280"/>
            <a:ext cx="2735280" cy="2166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29" descr="cyclone-1"/>
          <p:cNvPicPr/>
          <p:nvPr/>
        </p:nvPicPr>
        <p:blipFill>
          <a:blip r:embed="rId2"/>
          <a:srcRect l="17581" t="4272" r="18633" b="5324"/>
          <a:stretch/>
        </p:blipFill>
        <p:spPr>
          <a:xfrm>
            <a:off x="6300720" y="2852640"/>
            <a:ext cx="25909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374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nding in the mysterious field in the country of the Munchk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house killing the Wicked Witch of the E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7" descr="people"/>
          <p:cNvPicPr/>
          <p:nvPr/>
        </p:nvPicPr>
        <p:blipFill>
          <a:blip r:embed="rId1"/>
          <a:stretch/>
        </p:blipFill>
        <p:spPr>
          <a:xfrm>
            <a:off x="4859280" y="404640"/>
            <a:ext cx="3527640" cy="2738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28" descr="people-1"/>
          <p:cNvPicPr/>
          <p:nvPr/>
        </p:nvPicPr>
        <p:blipFill>
          <a:blip r:embed="rId2"/>
          <a:stretch/>
        </p:blipFill>
        <p:spPr>
          <a:xfrm>
            <a:off x="4788000" y="3622680"/>
            <a:ext cx="37447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4824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Witch of the North greeting Dorothy and gives her the silver sho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good witch of the North recommending Dorothy follow the Yellow Brick Road to the city of Emeralds and asking the wizard of Oz to help 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" descr="silver shoes-1"/>
          <p:cNvPicPr/>
          <p:nvPr/>
        </p:nvPicPr>
        <p:blipFill>
          <a:blip r:embed="rId1"/>
          <a:srcRect l="3122" t="16004" r="2235" b="17746"/>
          <a:stretch/>
        </p:blipFill>
        <p:spPr>
          <a:xfrm>
            <a:off x="5651640" y="260280"/>
            <a:ext cx="2736720" cy="273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yellow brick road"/>
          <p:cNvPicPr/>
          <p:nvPr/>
        </p:nvPicPr>
        <p:blipFill>
          <a:blip r:embed="rId2"/>
          <a:srcRect l="14919" t="1413" r="16990" b="4962"/>
          <a:stretch/>
        </p:blipFill>
        <p:spPr>
          <a:xfrm>
            <a:off x="5796000" y="3141720"/>
            <a:ext cx="25668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3640" y="2565000"/>
            <a:ext cx="856908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rothy mee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Scarecrow-a bra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Tin Woodman- a he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Cowardly Lion- courage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Wizard appearing each time as someone or something differ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four of them"/>
          <p:cNvPicPr/>
          <p:nvPr/>
        </p:nvPicPr>
        <p:blipFill>
          <a:blip r:embed="rId1"/>
          <a:stretch/>
        </p:blipFill>
        <p:spPr>
          <a:xfrm>
            <a:off x="4284720" y="189000"/>
            <a:ext cx="455436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uth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. Frank Bau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1856-1919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rn in 1856 at Chittenango, New Y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art condition is not g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imid and shy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baum2"/>
          <p:cNvPicPr/>
          <p:nvPr/>
        </p:nvPicPr>
        <p:blipFill>
          <a:blip r:embed="rId1"/>
          <a:stretch/>
        </p:blipFill>
        <p:spPr>
          <a:xfrm>
            <a:off x="5867280" y="3276720"/>
            <a:ext cx="21909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izard agreeing to help each of them, but one of them must kill the Wicked Witch of the W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icked Witch’s attacks failed. Dorothy killing the bad witch, and getting the golden 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attack them-1"/>
          <p:cNvPicPr/>
          <p:nvPr/>
        </p:nvPicPr>
        <p:blipFill>
          <a:blip r:embed="rId1"/>
          <a:srcRect l="7887" t="5291" r="5291" b="5291"/>
          <a:stretch/>
        </p:blipFill>
        <p:spPr>
          <a:xfrm>
            <a:off x="768240" y="3789360"/>
            <a:ext cx="2795760" cy="2879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attack them"/>
          <p:cNvPicPr/>
          <p:nvPr/>
        </p:nvPicPr>
        <p:blipFill>
          <a:blip r:embed="rId2"/>
          <a:srcRect l="9103" t="6047" r="6638" b="3713"/>
          <a:stretch/>
        </p:blipFill>
        <p:spPr>
          <a:xfrm>
            <a:off x="5219640" y="3500280"/>
            <a:ext cx="29574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3888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ck to the Emerald City and discovering the truth of the Wizar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wizard-curtain"/>
          <p:cNvPicPr/>
          <p:nvPr/>
        </p:nvPicPr>
        <p:blipFill>
          <a:blip r:embed="rId1"/>
          <a:stretch/>
        </p:blipFill>
        <p:spPr>
          <a:xfrm>
            <a:off x="4284720" y="1052640"/>
            <a:ext cx="4541760" cy="3563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84360" y="4869000"/>
            <a:ext cx="755964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e still agrees to give them what they w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280" y="3500280"/>
            <a:ext cx="4032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Good Witch of the South may be able to send Dorothy and Toto home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good witch"/>
          <p:cNvPicPr/>
          <p:nvPr/>
        </p:nvPicPr>
        <p:blipFill>
          <a:blip r:embed="rId1"/>
          <a:srcRect l="4699" t="14131" r="5948" b="16891"/>
          <a:stretch/>
        </p:blipFill>
        <p:spPr>
          <a:xfrm>
            <a:off x="4640400" y="3119400"/>
            <a:ext cx="3740040" cy="2781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755640" y="692280"/>
            <a:ext cx="727236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z have to take them home with him in hot air balloon again. But Dorothy and Toto miss the rising hot air balloon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764640"/>
            <a:ext cx="417492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silver shoes Dorothy wears can take her anywher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silver shoes"/>
          <p:cNvPicPr/>
          <p:nvPr/>
        </p:nvPicPr>
        <p:blipFill>
          <a:blip r:embed="rId1"/>
          <a:srcRect l="5258" t="23135" r="3483" b="20736"/>
          <a:stretch/>
        </p:blipFill>
        <p:spPr>
          <a:xfrm>
            <a:off x="4716360" y="620640"/>
            <a:ext cx="3743280" cy="2592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684360" y="3429000"/>
            <a:ext cx="7921440" cy="24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rothy and Toto returning to Kans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Scarecrow - Leader of Emerald 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Tin woodman - Leader of We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Cowardly Lion - King to the forest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990720"/>
            <a:ext cx="6213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Black"/>
              </a:rPr>
              <a:t>Them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iend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en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see is to belie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I help being a humbug when all these people make me do things   that everybody knows can’t be done?” said Oz.  (p.1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Black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yellow brick 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rothy’s silver sh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yellow brick road"/>
          <p:cNvPicPr/>
          <p:nvPr/>
        </p:nvPicPr>
        <p:blipFill>
          <a:blip r:embed="rId1"/>
          <a:stretch/>
        </p:blipFill>
        <p:spPr>
          <a:xfrm>
            <a:off x="5105520" y="1905120"/>
            <a:ext cx="3276360" cy="1987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hoes"/>
          <p:cNvPicPr/>
          <p:nvPr/>
        </p:nvPicPr>
        <p:blipFill>
          <a:blip r:embed="rId2"/>
          <a:stretch/>
        </p:blipFill>
        <p:spPr>
          <a:xfrm>
            <a:off x="5105520" y="3962520"/>
            <a:ext cx="32763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. Frank Ba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age 5: moved to Rose Lawn Estate, a country home near Chittenango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father had made a fortune out of oi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ver used his first name (he preferred Fran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. Frank Ba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 fairy tales and British writers voraciously, especially enjoyed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icke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criticized the fairy tales that wer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ightening and horrify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ank made the decision: he would write a different kind of fairy 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. Frank Ba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parents sent him away to a strict military sch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ffering a heart attack or a nervous breakd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lly withdraw from Peekski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an to nurture Frank’s creative inter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hildren’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vc3"/>
          <p:cNvPicPr/>
          <p:nvPr/>
        </p:nvPicPr>
        <p:blipFill>
          <a:blip r:embed="rId1"/>
          <a:stretch/>
        </p:blipFill>
        <p:spPr>
          <a:xfrm>
            <a:off x="4419720" y="1600200"/>
            <a:ext cx="4201920" cy="4995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304920" y="2057400"/>
            <a:ext cx="3809880" cy="28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hildren's bo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other Goose In Pro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189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Last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vc17t"/>
          <p:cNvPicPr/>
          <p:nvPr/>
        </p:nvPicPr>
        <p:blipFill>
          <a:blip r:embed="rId1"/>
          <a:stretch/>
        </p:blipFill>
        <p:spPr>
          <a:xfrm>
            <a:off x="5181480" y="1905120"/>
            <a:ext cx="3044880" cy="4038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3260880" y="2286000"/>
            <a:ext cx="549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28600" y="1981080"/>
            <a:ext cx="3962520" cy="38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Glinda of O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: (1920) Frank's fourteenth book in the Oz 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ed in 1919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his home in Hollywood,Californ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vc9p1"/>
          <p:cNvPicPr/>
          <p:nvPr/>
        </p:nvPicPr>
        <p:blipFill>
          <a:blip r:embed="rId1"/>
          <a:stretch/>
        </p:blipFill>
        <p:spPr>
          <a:xfrm>
            <a:off x="3352680" y="457200"/>
            <a:ext cx="5292720" cy="6400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80880" y="914400"/>
            <a:ext cx="28958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blished in September 1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ed by W.W. Den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vertising Po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vc10"/>
          <p:cNvPicPr/>
          <p:nvPr/>
        </p:nvPicPr>
        <p:blipFill>
          <a:blip r:embed="rId1"/>
          <a:stretch/>
        </p:blipFill>
        <p:spPr>
          <a:xfrm>
            <a:off x="1371600" y="1698480"/>
            <a:ext cx="655308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13:18:00Z</dcterms:created>
  <dc:creator>Patty</dc:creator>
  <dc:description/>
  <dc:language>en-US</dc:language>
  <cp:lastModifiedBy>Elisa</cp:lastModifiedBy>
  <dcterms:modified xsi:type="dcterms:W3CDTF">2009-11-05T17:45:39Z</dcterms:modified>
  <cp:revision>24</cp:revision>
  <dc:subject/>
  <dc:title>PowerPoint 簡報</dc:title>
</cp:coreProperties>
</file>